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82D-E5E5-4A12-9461-524DB79B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612-9266-4042-BE58-7D249022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E4A-6155-4768-8609-3C685DBA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44B-F7A8-42D3-9464-7D864D27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8C2-3511-4135-A53F-953EC43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DCC5-E568-431B-9ACF-F7D16B1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63A7-F668-404F-908A-1E40397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15E9-3978-4468-AA18-7AA5C57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C2C7-9E72-4AEA-BFC3-BFF05CC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037F-8144-4A26-B0D1-E69657AF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DD80-F922-4941-992D-76E764C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D51-8773-4824-AF28-C7AE2E08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E12-D1A9-4092-9017-DD51BCD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EAE-3831-41F0-9BAD-F931F4A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F3F-F915-4BED-8AB3-066AC5F9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35A6-8C40-461B-A978-8B8F6366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4E06-4C93-4D32-97D1-8DE9C90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827-25C7-41AB-8771-B1D4D53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FA3-773C-4B3A-ABFD-780C47C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329-9C72-4253-8856-429F65C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47E-D522-466E-A917-56F2363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DB4-5A04-4BC9-A4F1-144C336E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378-BC83-4EDE-A2C5-C2BF322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81E-077B-42AE-85C1-A4F41D8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A631-75A3-40E8-AEC4-6B1171373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A5FA-18F6-4887-8A7A-2DE456AD5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ff0000"/>
                </a:solidFill>
                <a:latin typeface="KZ Cooper"/>
              </a:rPr>
              <a:t>Әлсіз буы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2060"/>
                </a:solidFill>
                <a:latin typeface="KZ Vivaldi"/>
              </a:rPr>
              <a:t>зияткерлік сайы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Көмірлі қала - ..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2-кезең </a:t>
            </a:r>
            <a:br>
              <a:rPr sz="6600"/>
            </a:b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6600" spc="-1" strike="noStrike">
                <a:solidFill>
                  <a:srgbClr val="ff0000"/>
                </a:solidFill>
                <a:latin typeface="KZ Boyarsky"/>
              </a:rPr>
              <a:t>Жұмбақ </a:t>
            </a:r>
            <a:br>
              <a:rPr sz="6600"/>
            </a:br>
            <a:r>
              <a:rPr b="0" lang="kk-KZ" sz="6600" spc="-1" strike="noStrike">
                <a:solidFill>
                  <a:srgbClr val="ff0000"/>
                </a:solidFill>
                <a:latin typeface="KZ Boyarsky"/>
              </a:rPr>
              <a:t>сандық»</a:t>
            </a: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116000" y="1484280"/>
          <a:ext cx="7343640" cy="4140360"/>
        </p:xfrm>
        <a:graphic>
          <a:graphicData uri="http://schemas.openxmlformats.org/drawingml/2006/table">
            <a:tbl>
              <a:tblPr/>
              <a:tblGrid>
                <a:gridCol w="3672000"/>
                <a:gridCol w="957240"/>
                <a:gridCol w="844560"/>
                <a:gridCol w="912600"/>
                <a:gridCol w="957240"/>
              </a:tblGrid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Қазақ тіл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үниетан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Әдебиеттік оқ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4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98" name="Прямоугольник 1"/>
          <p:cNvSpPr/>
          <p:nvPr/>
        </p:nvSpPr>
        <p:spPr>
          <a:xfrm>
            <a:off x="2916360" y="69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KZ Boyarsky"/>
              </a:rPr>
              <a:t>Жұмбақ санд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в конец 1"/>
          <p:cNvSpPr/>
          <p:nvPr/>
        </p:nvSpPr>
        <p:spPr>
          <a:xfrm>
            <a:off x="1116000" y="5877000"/>
            <a:ext cx="1152360" cy="5763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25085" y="10800"/>
                </a:moveTo>
                <a:lnTo>
                  <a:pt x="14580" y="17806"/>
                </a:lnTo>
                <a:lnTo>
                  <a:pt x="14580" y="3794"/>
                </a:lnTo>
                <a:close/>
              </a:path>
              <a:path fill="darken" w="43173" h="21600">
                <a:moveTo>
                  <a:pt x="26931" y="3794"/>
                </a:moveTo>
                <a:lnTo>
                  <a:pt x="26931" y="17806"/>
                </a:lnTo>
                <a:lnTo>
                  <a:pt x="28593" y="17806"/>
                </a:lnTo>
                <a:lnTo>
                  <a:pt x="2859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Бала сөзіне дыбыстық талдау жас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омой 2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3,5,8 сандарын реттік сан есімге айналды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70c0"/>
                </a:solidFill>
                <a:latin typeface="KZ Times New Roman"/>
              </a:rPr>
              <a:t>Зат есімнің ережесі, сұрақтары, мысал келті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KZ Times New Roman"/>
              </a:rPr>
              <a:t>Күрделі етістік қатыстырып сөйлем құрасты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жүзд. 5бірліктен тұратын санды ат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2800" y="2205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0 –ден 100 бен 50-дің қосындысын азай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домой 4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0+х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=</a:t>
            </a: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20-100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=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1-кезең </a:t>
            </a:r>
            <a:br>
              <a:rPr sz="6600"/>
            </a:br>
            <a:r>
              <a:rPr b="1" lang="kk-KZ" sz="6600" spc="-1" strike="noStrike">
                <a:solidFill>
                  <a:srgbClr val="ff0000"/>
                </a:solidFill>
                <a:latin typeface="KZ Boyarsky"/>
              </a:rPr>
              <a:t>Сергіту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2565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алманы үш ыдысқа тең бөліп сал.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Әр ыдыста неше алмадан болад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ман емшісі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алатын қандай құс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7640" y="2636640"/>
            <a:ext cx="56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сімдіктің өсіп-өнуі үшін не қаж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тустың Отаны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24000" y="227628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ксеуіл ағашының биіктігі мен тамырының ұзындығы  қанш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үй атасы -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640" y="2204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Қазақ хрестоматиясы» кітабының автор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29239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йдадым жылқы қылып отыз түлкі,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рсықты ұстап мінсең, аттың мүлкі.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шінде топ адамның тулап жығып,</a:t>
            </a: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ылдың-ау, ойбай, қарсақ, жұртқа күлкі!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й өлеңнен үзінді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лықпан хакімнің </a:t>
            </a:r>
            <a:br>
              <a:rPr sz="4400"/>
            </a:br>
            <a:r>
              <a:rPr b="1" lang="kk-KZ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ті өсиетін ат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омой 3"/>
          <p:cNvSpPr/>
          <p:nvPr/>
        </p:nvSpPr>
        <p:spPr>
          <a:xfrm>
            <a:off x="1187280" y="566100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3-кезең </a:t>
            </a:r>
            <a:br>
              <a:rPr sz="4800"/>
            </a:b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4800" spc="-1" strike="noStrike">
                <a:solidFill>
                  <a:srgbClr val="ff0000"/>
                </a:solidFill>
                <a:latin typeface="KZ Boyarsky"/>
              </a:rPr>
              <a:t>Жеті жұрттың </a:t>
            </a:r>
            <a:br>
              <a:rPr sz="4800"/>
            </a:br>
            <a:r>
              <a:rPr b="0" lang="kk-KZ" sz="4800" spc="-1" strike="noStrike">
                <a:solidFill>
                  <a:srgbClr val="ff0000"/>
                </a:solidFill>
                <a:latin typeface="KZ Boyarsky"/>
              </a:rPr>
              <a:t>тілін біл»</a:t>
            </a:r>
            <a:r>
              <a:rPr b="1" lang="kk-KZ" sz="48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Қазақ әліпбиінде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неше әріп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268360" y="20606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a11f6c"/>
                </a:solidFill>
                <a:latin typeface="Times New Roman"/>
                <a:ea typeface="Calibri"/>
              </a:rPr>
              <a:t>Қабат – қабат қаттама</a:t>
            </a:r>
            <a:br>
              <a:rPr sz="3600"/>
            </a:br>
            <a:r>
              <a:rPr b="1" lang="kk-KZ" sz="3600" spc="-1" strike="noStrike">
                <a:solidFill>
                  <a:srgbClr val="a11f6c"/>
                </a:solidFill>
                <a:latin typeface="Times New Roman"/>
                <a:ea typeface="Calibri"/>
              </a:rPr>
              <a:t>Ақылың болса атта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ітап – книга -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утболшының алаңдағы ойын заты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п – мяч - b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үз теңгең болғанша,</a:t>
            </a:r>
            <a:br>
              <a:rPr sz="4400"/>
            </a:b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үз....... болсын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с – друг -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ті қазынаның бірі –</a:t>
            </a:r>
            <a:br>
              <a:rPr sz="4400"/>
            </a:b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дамды қорып жүретін дос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 – собака - 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33200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Сергіту сә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правляющая кнопка: фильм 6"/>
          <p:cNvSpPr/>
          <p:nvPr/>
        </p:nvSpPr>
        <p:spPr>
          <a:xfrm>
            <a:off x="4643280" y="2997360"/>
            <a:ext cx="803520" cy="647640"/>
          </a:xfrm>
          <a:custGeom>
            <a:avLst/>
            <a:gdLst>
              <a:gd name="textAreaLeft" fmla="*/ 41760 w 803520"/>
              <a:gd name="textAreaRight" fmla="*/ 761760 w 8035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796" h="21600">
                <a:moveTo>
                  <a:pt x="0" y="0"/>
                </a:moveTo>
                <a:lnTo>
                  <a:pt x="26796" y="0"/>
                </a:lnTo>
                <a:lnTo>
                  <a:pt x="26796" y="21600"/>
                </a:lnTo>
                <a:lnTo>
                  <a:pt x="0" y="21600"/>
                </a:lnTo>
                <a:close/>
              </a:path>
              <a:path fill="lightenLess" w="26796" h="21600">
                <a:moveTo>
                  <a:pt x="0" y="0"/>
                </a:moveTo>
                <a:lnTo>
                  <a:pt x="26796" y="0"/>
                </a:lnTo>
                <a:lnTo>
                  <a:pt x="25396" y="1400"/>
                </a:lnTo>
                <a:lnTo>
                  <a:pt x="1400" y="1400"/>
                </a:lnTo>
                <a:close/>
              </a:path>
              <a:path fill="darken" w="26796" h="21600">
                <a:moveTo>
                  <a:pt x="26796" y="0"/>
                </a:moveTo>
                <a:lnTo>
                  <a:pt x="26796" y="21600"/>
                </a:lnTo>
                <a:lnTo>
                  <a:pt x="25396" y="20200"/>
                </a:lnTo>
                <a:lnTo>
                  <a:pt x="25396" y="1400"/>
                </a:lnTo>
                <a:close/>
              </a:path>
              <a:path fill="darkenLess" w="26796" h="21600">
                <a:moveTo>
                  <a:pt x="2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96" y="20200"/>
                </a:lnTo>
                <a:close/>
              </a:path>
              <a:path fill="lighten" w="2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96" h="21600">
                <a:moveTo>
                  <a:pt x="6392" y="7301"/>
                </a:moveTo>
                <a:lnTo>
                  <a:pt x="7305" y="7301"/>
                </a:lnTo>
                <a:lnTo>
                  <a:pt x="7688" y="7667"/>
                </a:lnTo>
                <a:lnTo>
                  <a:pt x="16897" y="7667"/>
                </a:lnTo>
                <a:lnTo>
                  <a:pt x="17454" y="8224"/>
                </a:lnTo>
                <a:lnTo>
                  <a:pt x="17454" y="8772"/>
                </a:lnTo>
                <a:lnTo>
                  <a:pt x="19299" y="8772"/>
                </a:lnTo>
                <a:lnTo>
                  <a:pt x="19665" y="8224"/>
                </a:lnTo>
                <a:lnTo>
                  <a:pt x="20404" y="8224"/>
                </a:lnTo>
                <a:lnTo>
                  <a:pt x="20404" y="13376"/>
                </a:lnTo>
                <a:lnTo>
                  <a:pt x="19665" y="13376"/>
                </a:lnTo>
                <a:lnTo>
                  <a:pt x="19299" y="12828"/>
                </a:lnTo>
                <a:lnTo>
                  <a:pt x="17454" y="12828"/>
                </a:lnTo>
                <a:lnTo>
                  <a:pt x="17454" y="14107"/>
                </a:lnTo>
                <a:lnTo>
                  <a:pt x="7871" y="14107"/>
                </a:lnTo>
                <a:lnTo>
                  <a:pt x="7871" y="9877"/>
                </a:lnTo>
                <a:lnTo>
                  <a:pt x="7688" y="9877"/>
                </a:lnTo>
                <a:lnTo>
                  <a:pt x="7305" y="10243"/>
                </a:lnTo>
                <a:lnTo>
                  <a:pt x="6392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58920" y="18900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4-кезең </a:t>
            </a:r>
            <a:br>
              <a:rPr sz="5400"/>
            </a:b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Ойлан, тап!»</a:t>
            </a: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Сурет пен сұлбаның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айырмашылығы?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Бес бұтақты ағашта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Бұтақ сайын бес алма.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Біреуін бер алашқа</a:t>
            </a:r>
            <a:br>
              <a:rPr sz="4400"/>
            </a:b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    Қалады сонда қанша алма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KZ Jikharev"/>
              </a:rPr>
              <a:t>Дорбадағы 10 асықты 10 бала бір-бірлеп алды. </a:t>
            </a: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Сонда 1 асық дорбада қалды. Бұл қалай?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Түйе, бота маң басқа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Төрт аяғын тең басқан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Шұнақ құлақ бес ешкі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Қос лақты, қос ешкі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Төрт қозылы екі қо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    Бәрін бірге ойлап қой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KZ Jikharev"/>
              </a:rPr>
              <a:t>Жеті үйрек ұшып бара жатыр. Аңшы екеуін атып түсірді. Неше үйрек қал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547640" y="836640"/>
            <a:ext cx="822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5-кезең </a:t>
            </a:r>
            <a:br>
              <a:rPr sz="5400"/>
            </a:br>
            <a:r>
              <a:rPr b="1" lang="kk-KZ" sz="5400" spc="-1" strike="noStrike">
                <a:solidFill>
                  <a:srgbClr val="ff0000"/>
                </a:solidFill>
                <a:latin typeface="KZ Boyarsky"/>
              </a:rPr>
              <a:t>«</a:t>
            </a: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Санның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0000"/>
                </a:solidFill>
                <a:latin typeface="KZ Boyarsky"/>
              </a:rPr>
              <a:t>сыр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ект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бірд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, ,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ект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бірд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, </a:t>
            </a:r>
            <a:br>
              <a:rPr sz="6000"/>
            </a:b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імді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мыңды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ығад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қсы қас болмас,...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қсы қас болмас,</a:t>
            </a:r>
            <a:br>
              <a:rPr sz="6000"/>
            </a:b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Ек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аман дос болмас.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генің бір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,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Қазақтың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ғарышкерлерін ата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генің бір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, </a:t>
            </a:r>
            <a:br>
              <a:rPr sz="6000"/>
            </a:b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Білмегенің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қсан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</a:t>
            </a: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тоғыз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ұрттың тілін біл,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жұрттың тілін біл,</a:t>
            </a:r>
            <a:br>
              <a:rPr sz="6000"/>
            </a:br>
            <a:r>
              <a:rPr b="1" lang="kk-KZ" sz="6000" spc="-1" strike="noStrike" u="sng">
                <a:solidFill>
                  <a:srgbClr val="002060"/>
                </a:solidFill>
                <a:uFillTx/>
                <a:latin typeface="KZ Vivaldi"/>
              </a:rPr>
              <a:t>Жеті</a:t>
            </a:r>
            <a:r>
              <a:rPr b="1" lang="kk-KZ" sz="6000" spc="-1" strike="noStrike">
                <a:solidFill>
                  <a:srgbClr val="002060"/>
                </a:solidFill>
                <a:latin typeface="KZ Vivaldi"/>
              </a:rPr>
              <a:t> түрлі білім бі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3"/>
          <p:cNvSpPr/>
          <p:nvPr/>
        </p:nvSpPr>
        <p:spPr>
          <a:xfrm>
            <a:off x="2093400" y="1125360"/>
            <a:ext cx="654804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0000"/>
                </a:solidFill>
                <a:uFillTx/>
                <a:latin typeface="KZ Vivaldi"/>
                <a:ea typeface="Times New Roman"/>
              </a:rPr>
              <a:t>Жеті</a:t>
            </a:r>
            <a:r>
              <a:rPr b="1" lang="kk-KZ" sz="4000" spc="-1" strike="noStrike">
                <a:solidFill>
                  <a:srgbClr val="ff0000"/>
                </a:solidFill>
                <a:latin typeface="KZ Vivaldi"/>
                <a:ea typeface="Times New Roman"/>
              </a:rPr>
              <a:t> жұрттың тілін біл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ff0000"/>
                </a:solidFill>
                <a:uFillTx/>
                <a:latin typeface="KZ Vivaldi"/>
                <a:ea typeface="Times New Roman"/>
              </a:rPr>
              <a:t>жеті</a:t>
            </a:r>
            <a:r>
              <a:rPr b="1" lang="kk-KZ" sz="4000" spc="-1" strike="noStrike">
                <a:solidFill>
                  <a:srgbClr val="ff0000"/>
                </a:solidFill>
                <a:latin typeface="KZ Vivaldi"/>
                <a:ea typeface="Times New Roman"/>
              </a:rPr>
              <a:t> түрлі білім бі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Р қандай дыбыс? 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Көкжиектің төрт тұсын айтып бер.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Екі  тәулікте қанша сағат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Екі  жылда </a:t>
            </a:r>
            <a:br>
              <a:rPr sz="6600"/>
            </a:br>
            <a:r>
              <a:rPr b="1" lang="kk-KZ" sz="6600" spc="-1" strike="noStrike">
                <a:solidFill>
                  <a:srgbClr val="7030a0"/>
                </a:solidFill>
                <a:latin typeface="KZ Decor"/>
              </a:rPr>
              <a:t>неше ай бар?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Shalkar Uisipkhan</cp:lastModifiedBy>
  <dcterms:modified xsi:type="dcterms:W3CDTF">2017-04-19T01:18:04Z</dcterms:modified>
  <cp:revision>18</cp:revision>
  <dc:subject/>
  <dc:title>Слайд 1</dc:title>
</cp:coreProperties>
</file>